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er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Wärme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rößer al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Wärme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90640" y="549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ther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ärme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ößer al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ärme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89920" y="549360"/>
            <a:ext cx="64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ther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Wärmeverlust größer als Wärme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3"/>
            <a:endCxn id="10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hr kalte Umgeb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yre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sses Fel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lpe ohne Mutter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urfgeschwist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58:09Z</dcterms:modified>
  <cp:revision>328</cp:revision>
  <dc:subject/>
  <dc:title>Vorstellung einer Neuheit</dc:title>
</cp:coreProperties>
</file>